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C24B-42F4-4630-99A1-D2343FAC2C2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7251-F450-4791-9633-87A8A5DD3EE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261-AE1C-4457-A98E-E8E3A30F606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E734-B30A-4145-A106-7AF924E4013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519A-97E4-41E0-93BE-C5570599A0B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9C32-2B7D-4500-9DE1-79142753C9C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C3F8-2A6B-4103-BEE3-4D462FEFF12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403E-79BF-471C-840A-E7A499F3A59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4402-E2F9-4DF3-B370-0415622BE27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E6C5-B1CF-4667-B5C6-68167417EAC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210F-D972-43E0-B783-4D5C661D22A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D599-3479-41FD-9219-6050123880A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46E8-115B-4F96-B61C-0127C8751FF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A7F-1D2E-47AE-96F9-078CA497FBB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55EA-D8AB-4703-B18E-137A4D3D032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75D7-3295-4883-9930-D7C42FB8CFB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DE3-C89A-420A-8980-142CBD46CB0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360-95AB-479A-97D9-63FFCAFBBF1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268-F16B-4212-B465-FF1943E4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061-57C1-460D-94AC-1BB6D72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454-03DC-439F-AE29-DA27041E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CFA-9E9F-4670-8FE2-9F6C31AF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E76-1185-4A0A-AEB1-1D252A0E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B0C-600E-4B49-A700-2A674A6D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EF3-AD6D-43DA-872A-19DBF68D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7B9-2D6C-4F25-AB13-78FC7087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EB1-F3A1-43D7-8937-A87CC12E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A57-7303-453C-B287-B7D1F412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376-1027-4079-B8FE-C89BDC1F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816-755E-46A2-9079-EB4F883E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916-6BC6-43D7-9E69-DD41928FCAE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n N+ (XBLA) Postmor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n+_logo_sized.jpg"/>
          <p:cNvPicPr/>
          <p:nvPr/>
        </p:nvPicPr>
        <p:blipFill>
          <a:blip r:embed="rId1"/>
          <a:stretch/>
        </p:blipFill>
        <p:spPr>
          <a:xfrm>
            <a:off x="285840" y="4714920"/>
            <a:ext cx="196848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500200" y="5429160"/>
            <a:ext cx="59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ttp://www.thewayoftheninj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059200" y="1857240"/>
            <a:ext cx="531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Mare Sheppard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– Metanet Software In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reATmetanetsoftwar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Nick Waanders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– Slick Entertainment In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nickATslickentertainmen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Slick\NPlus\Documentation\GDC 2008\fxeditor.png"/>
          <p:cNvPicPr/>
          <p:nvPr/>
        </p:nvPicPr>
        <p:blipFill>
          <a:blip r:embed="rId1"/>
          <a:stretch/>
        </p:blipFill>
        <p:spPr>
          <a:xfrm>
            <a:off x="4357800" y="3357720"/>
            <a:ext cx="4476600" cy="3165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pr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usic + UI design contracted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sic UI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ultiplayer high-level 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isual Effects Edi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500040" y="4786200"/>
            <a:ext cx="8215200" cy="1643040"/>
            <a:chOff x="500040" y="4786200"/>
            <a:chExt cx="8215200" cy="1643040"/>
          </a:xfrm>
        </p:grpSpPr>
        <p:sp>
          <p:nvSpPr>
            <p:cNvPr id="86" name="Rounded Rectangle 5"/>
            <p:cNvSpPr/>
            <p:nvPr/>
          </p:nvSpPr>
          <p:spPr>
            <a:xfrm>
              <a:off x="500040" y="4786200"/>
              <a:ext cx="8215200" cy="16430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4"/>
            <p:cNvSpPr/>
            <p:nvPr/>
          </p:nvSpPr>
          <p:spPr>
            <a:xfrm>
              <a:off x="642600" y="4870080"/>
              <a:ext cx="7929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Outsource early. People </a:t>
              </a:r>
              <a:r>
                <a:rPr b="1" i="1" lang="en-CA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hate</a:t>
              </a: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 getting stuff at the last minut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ck\NPlus\Documentation\GDC 2008\DebugTool.png"/>
          <p:cNvPicPr/>
          <p:nvPr/>
        </p:nvPicPr>
        <p:blipFill>
          <a:blip r:embed="rId1"/>
          <a:stretch/>
        </p:blipFill>
        <p:spPr>
          <a:xfrm>
            <a:off x="3857760" y="3357720"/>
            <a:ext cx="4786200" cy="3105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tchmaking, Leaderboards, Achiev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gameplay modes wor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evel edi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ilt debug t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500040" y="4786200"/>
            <a:ext cx="8215200" cy="1214640"/>
            <a:chOff x="500040" y="4786200"/>
            <a:chExt cx="8215200" cy="1214640"/>
          </a:xfrm>
        </p:grpSpPr>
        <p:sp>
          <p:nvSpPr>
            <p:cNvPr id="92" name="Rounded Rectangle 5"/>
            <p:cNvSpPr/>
            <p:nvPr/>
          </p:nvSpPr>
          <p:spPr>
            <a:xfrm>
              <a:off x="500040" y="4786200"/>
              <a:ext cx="8215200" cy="1214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4"/>
            <p:cNvSpPr/>
            <p:nvPr/>
          </p:nvSpPr>
          <p:spPr>
            <a:xfrm>
              <a:off x="642600" y="484812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Build all tools in C#. It’s fast and very robust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Slick\NPlus\Documentation\GDC 2008\replay_mockup.jpg"/>
          <p:cNvPicPr/>
          <p:nvPr/>
        </p:nvPicPr>
        <p:blipFill>
          <a:blip r:embed="rId1"/>
          <a:stretch/>
        </p:blipFill>
        <p:spPr>
          <a:xfrm>
            <a:off x="2214720" y="3929040"/>
            <a:ext cx="4649760" cy="2714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Ju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oice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ntegrating new UI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eneral gameplay c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ts of docum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6"/>
          <p:cNvGrpSpPr/>
          <p:nvPr/>
        </p:nvGrpSpPr>
        <p:grpSpPr>
          <a:xfrm>
            <a:off x="500040" y="4786200"/>
            <a:ext cx="8215200" cy="1363680"/>
            <a:chOff x="500040" y="4786200"/>
            <a:chExt cx="8215200" cy="1363680"/>
          </a:xfrm>
        </p:grpSpPr>
        <p:sp>
          <p:nvSpPr>
            <p:cNvPr id="98" name="Rounded Rectangle 5"/>
            <p:cNvSpPr/>
            <p:nvPr/>
          </p:nvSpPr>
          <p:spPr>
            <a:xfrm>
              <a:off x="500040" y="4786200"/>
              <a:ext cx="8215200" cy="13636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4"/>
            <p:cNvSpPr/>
            <p:nvPr/>
          </p:nvSpPr>
          <p:spPr>
            <a:xfrm>
              <a:off x="642600" y="492876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Don’t forget the time needed for documentation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ild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ll levels and features in the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rial m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atings sub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500040" y="4786200"/>
            <a:ext cx="8215200" cy="1363680"/>
            <a:chOff x="500040" y="4786200"/>
            <a:chExt cx="8215200" cy="1363680"/>
          </a:xfrm>
        </p:grpSpPr>
        <p:sp>
          <p:nvSpPr>
            <p:cNvPr id="103" name="Rounded Rectangle 5"/>
            <p:cNvSpPr/>
            <p:nvPr/>
          </p:nvSpPr>
          <p:spPr>
            <a:xfrm>
              <a:off x="500040" y="4786200"/>
              <a:ext cx="8215200" cy="13636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"/>
            <p:cNvSpPr/>
            <p:nvPr/>
          </p:nvSpPr>
          <p:spPr>
            <a:xfrm>
              <a:off x="642600" y="492876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Get a build machin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D:\Slick\NPlus\Documentation\GDC 2008\pax 009.jpg"/>
          <p:cNvPicPr/>
          <p:nvPr/>
        </p:nvPicPr>
        <p:blipFill>
          <a:blip r:embed="rId1"/>
          <a:stretch/>
        </p:blipFill>
        <p:spPr>
          <a:xfrm>
            <a:off x="5143680" y="2000160"/>
            <a:ext cx="3786120" cy="4429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ug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MC starts tes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in problem ar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ial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owing the game at P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500040" y="4786200"/>
            <a:ext cx="8215200" cy="1363680"/>
            <a:chOff x="500040" y="4786200"/>
            <a:chExt cx="8215200" cy="1363680"/>
          </a:xfrm>
        </p:grpSpPr>
        <p:sp>
          <p:nvSpPr>
            <p:cNvPr id="109" name="Rounded Rectangle 5"/>
            <p:cNvSpPr/>
            <p:nvPr/>
          </p:nvSpPr>
          <p:spPr>
            <a:xfrm>
              <a:off x="500040" y="4786200"/>
              <a:ext cx="8215200" cy="13636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4"/>
            <p:cNvSpPr/>
            <p:nvPr/>
          </p:nvSpPr>
          <p:spPr>
            <a:xfrm>
              <a:off x="642600" y="492876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Get your dialogs under control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ept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g fix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ultiplayer (lots of different mo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isconnecting, Signing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ocalization of all Loc-Str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500040" y="4429080"/>
            <a:ext cx="8215200" cy="1643040"/>
            <a:chOff x="500040" y="4429080"/>
            <a:chExt cx="8215200" cy="1643040"/>
          </a:xfrm>
        </p:grpSpPr>
        <p:sp>
          <p:nvSpPr>
            <p:cNvPr id="114" name="Rounded Rectangle 5"/>
            <p:cNvSpPr/>
            <p:nvPr/>
          </p:nvSpPr>
          <p:spPr>
            <a:xfrm>
              <a:off x="500040" y="4429080"/>
              <a:ext cx="8215200" cy="16430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4"/>
            <p:cNvSpPr/>
            <p:nvPr/>
          </p:nvSpPr>
          <p:spPr>
            <a:xfrm>
              <a:off x="642600" y="4571640"/>
              <a:ext cx="7929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nder your fonts to bitmaps if you’re supporting Asian language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Octo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g fix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CR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erminology problems in localized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evel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etting game ready for Cer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500040" y="4429080"/>
            <a:ext cx="8215200" cy="1143000"/>
            <a:chOff x="500040" y="4429080"/>
            <a:chExt cx="8215200" cy="1143000"/>
          </a:xfrm>
        </p:grpSpPr>
        <p:sp>
          <p:nvSpPr>
            <p:cNvPr id="119" name="Rounded Rectangle 5"/>
            <p:cNvSpPr/>
            <p:nvPr/>
          </p:nvSpPr>
          <p:spPr>
            <a:xfrm>
              <a:off x="500040" y="4429080"/>
              <a:ext cx="8215200" cy="1143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4"/>
            <p:cNvSpPr/>
            <p:nvPr/>
          </p:nvSpPr>
          <p:spPr>
            <a:xfrm>
              <a:off x="642600" y="45716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Get a comfy chair in the offic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ov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ntered Certification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h no! More bugfix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500040" y="4429080"/>
            <a:ext cx="8215200" cy="1143000"/>
            <a:chOff x="500040" y="4429080"/>
            <a:chExt cx="8215200" cy="1143000"/>
          </a:xfrm>
        </p:grpSpPr>
        <p:sp>
          <p:nvSpPr>
            <p:cNvPr id="124" name="Rounded Rectangle 5"/>
            <p:cNvSpPr/>
            <p:nvPr/>
          </p:nvSpPr>
          <p:spPr>
            <a:xfrm>
              <a:off x="500040" y="4429080"/>
              <a:ext cx="8215200" cy="1143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4"/>
            <p:cNvSpPr/>
            <p:nvPr/>
          </p:nvSpPr>
          <p:spPr>
            <a:xfrm>
              <a:off x="642600" y="45716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Don’t plan a vacation right after cert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ec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g fi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aily calls about bug 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-entered Certification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6"/>
          <p:cNvGrpSpPr/>
          <p:nvPr/>
        </p:nvGrpSpPr>
        <p:grpSpPr>
          <a:xfrm>
            <a:off x="500040" y="4429080"/>
            <a:ext cx="8215200" cy="1571760"/>
            <a:chOff x="500040" y="4429080"/>
            <a:chExt cx="8215200" cy="1571760"/>
          </a:xfrm>
        </p:grpSpPr>
        <p:sp>
          <p:nvSpPr>
            <p:cNvPr id="129" name="Rounded Rectangle 5"/>
            <p:cNvSpPr/>
            <p:nvPr/>
          </p:nvSpPr>
          <p:spPr>
            <a:xfrm>
              <a:off x="500040" y="4429080"/>
              <a:ext cx="8215200" cy="15717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4"/>
            <p:cNvSpPr/>
            <p:nvPr/>
          </p:nvSpPr>
          <p:spPr>
            <a:xfrm>
              <a:off x="642600" y="4571640"/>
              <a:ext cx="7929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More features means more bugs. Try to get less of both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D:\Slick\NPlus\Documentation\GDC 2008\Gold.png"/>
          <p:cNvPicPr/>
          <p:nvPr/>
        </p:nvPicPr>
        <p:blipFill>
          <a:blip r:embed="rId1"/>
          <a:stretch/>
        </p:blipFill>
        <p:spPr>
          <a:xfrm>
            <a:off x="1285920" y="607212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:\Slick\NPlus\Documentation\GDC 2008\Gold.png"/>
          <p:cNvPicPr/>
          <p:nvPr/>
        </p:nvPicPr>
        <p:blipFill>
          <a:blip r:embed="rId2"/>
          <a:stretch/>
        </p:blipFill>
        <p:spPr>
          <a:xfrm>
            <a:off x="2500200" y="450072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Slick\NPlus\Documentation\GDC 2008\Gold.png"/>
          <p:cNvPicPr/>
          <p:nvPr/>
        </p:nvPicPr>
        <p:blipFill>
          <a:blip r:embed="rId3"/>
          <a:stretch/>
        </p:blipFill>
        <p:spPr>
          <a:xfrm>
            <a:off x="6357960" y="60721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Slick\NPlus\Documentation\GDC 2008\Gold.png"/>
          <p:cNvPicPr/>
          <p:nvPr/>
        </p:nvPicPr>
        <p:blipFill>
          <a:blip r:embed="rId4"/>
          <a:stretch/>
        </p:blipFill>
        <p:spPr>
          <a:xfrm>
            <a:off x="5286240" y="485784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282888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ar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7"/>
          <p:cNvGrpSpPr/>
          <p:nvPr/>
        </p:nvGrpSpPr>
        <p:grpSpPr>
          <a:xfrm>
            <a:off x="500040" y="4429080"/>
            <a:ext cx="8215200" cy="1571760"/>
            <a:chOff x="500040" y="4429080"/>
            <a:chExt cx="8215200" cy="1571760"/>
          </a:xfrm>
        </p:grpSpPr>
        <p:sp>
          <p:nvSpPr>
            <p:cNvPr id="138" name="Rounded Rectangle 5"/>
            <p:cNvSpPr/>
            <p:nvPr/>
          </p:nvSpPr>
          <p:spPr>
            <a:xfrm>
              <a:off x="500040" y="4429080"/>
              <a:ext cx="8215200" cy="15717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4"/>
            <p:cNvSpPr/>
            <p:nvPr/>
          </p:nvSpPr>
          <p:spPr>
            <a:xfrm>
              <a:off x="642600" y="45716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Party hard. You deserve it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Picture 3" descr="D:\Slick\NPlus\Documentation\GDC 2008\ninja1.png"/>
          <p:cNvPicPr/>
          <p:nvPr/>
        </p:nvPicPr>
        <p:blipFill>
          <a:blip r:embed="rId5"/>
          <a:stretch/>
        </p:blipFill>
        <p:spPr>
          <a:xfrm>
            <a:off x="1714680" y="2214720"/>
            <a:ext cx="2928600" cy="2181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D:\Slick\NPlus\Documentation\GDC 2008\ninja2.png"/>
          <p:cNvPicPr/>
          <p:nvPr/>
        </p:nvPicPr>
        <p:blipFill>
          <a:blip r:embed="rId6"/>
          <a:stretch/>
        </p:blipFill>
        <p:spPr>
          <a:xfrm>
            <a:off x="4786200" y="2071800"/>
            <a:ext cx="2778120" cy="2357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D:\Slick\NPlus\Documentation\GDC 2008\Mine.png"/>
          <p:cNvPicPr/>
          <p:nvPr/>
        </p:nvPicPr>
        <p:blipFill>
          <a:blip r:embed="rId7"/>
          <a:stretch/>
        </p:blipFill>
        <p:spPr>
          <a:xfrm>
            <a:off x="4357800" y="142884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:\Slick\NPlus\Documentation\GDC 2008\Gold.png"/>
          <p:cNvPicPr/>
          <p:nvPr/>
        </p:nvPicPr>
        <p:blipFill>
          <a:blip r:embed="rId8"/>
          <a:stretch/>
        </p:blipFill>
        <p:spPr>
          <a:xfrm>
            <a:off x="4643280" y="30002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D:\Slick\NPlus\Documentation\GDC 2008\Gold.png"/>
          <p:cNvPicPr/>
          <p:nvPr/>
        </p:nvPicPr>
        <p:blipFill>
          <a:blip r:embed="rId9"/>
          <a:stretch/>
        </p:blipFill>
        <p:spPr>
          <a:xfrm>
            <a:off x="6357960" y="15717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D:\Slick\NPlus\Documentation\GDC 2008\Gold.png"/>
          <p:cNvPicPr/>
          <p:nvPr/>
        </p:nvPicPr>
        <p:blipFill>
          <a:blip r:embed="rId10"/>
          <a:stretch/>
        </p:blipFill>
        <p:spPr>
          <a:xfrm>
            <a:off x="8358120" y="39290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D:\Slick\NPlus\Documentation\GDC 2008\Gold.png"/>
          <p:cNvPicPr/>
          <p:nvPr/>
        </p:nvPicPr>
        <p:blipFill>
          <a:blip r:embed="rId11"/>
          <a:stretch/>
        </p:blipFill>
        <p:spPr>
          <a:xfrm>
            <a:off x="1643040" y="3500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D:\Slick\NPlus\Documentation\GDC 2008\Gold.png"/>
          <p:cNvPicPr/>
          <p:nvPr/>
        </p:nvPicPr>
        <p:blipFill>
          <a:blip r:embed="rId12"/>
          <a:stretch/>
        </p:blipFill>
        <p:spPr>
          <a:xfrm>
            <a:off x="2143080" y="10000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D:\Slick\NPlus\Documentation\GDC 2008\Gold.png"/>
          <p:cNvPicPr/>
          <p:nvPr/>
        </p:nvPicPr>
        <p:blipFill>
          <a:blip r:embed="rId13"/>
          <a:stretch/>
        </p:blipFill>
        <p:spPr>
          <a:xfrm>
            <a:off x="8072280" y="1143000"/>
            <a:ext cx="289080" cy="289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 well-developed prototype is worth its weight in gold. Actually, they tend not to weigh much, so really it’s worth the weight of something heav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unding: self-funding by getting a loan or grant is the best way to go. You’ll get the best royalty deal, take the fewest financial risks and retain IP, copyright and your sou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n-31_t.jpg"/>
          <p:cNvPicPr/>
          <p:nvPr/>
        </p:nvPicPr>
        <p:blipFill>
          <a:blip r:embed="rId1"/>
          <a:stretch/>
        </p:blipFill>
        <p:spPr>
          <a:xfrm>
            <a:off x="6453360" y="300024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n-38_t.jpg"/>
          <p:cNvPicPr/>
          <p:nvPr/>
        </p:nvPicPr>
        <p:blipFill>
          <a:blip r:embed="rId2"/>
          <a:stretch/>
        </p:blipFill>
        <p:spPr>
          <a:xfrm>
            <a:off x="1023840" y="3014640"/>
            <a:ext cx="1905120" cy="1486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_logo_clear.gif"/>
          <p:cNvPicPr/>
          <p:nvPr/>
        </p:nvPicPr>
        <p:blipFill>
          <a:blip r:embed="rId3"/>
          <a:stretch/>
        </p:blipFill>
        <p:spPr>
          <a:xfrm>
            <a:off x="3862440" y="2784600"/>
            <a:ext cx="1709640" cy="1716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wen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esign was 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omebuilt tools helped us a l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p-secret focus testing at PA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e hit every milestone exactly on the day (except C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could we impr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on’t fail Cert the first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o many features and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xtra programmer at bugfixing s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785880" y="4000680"/>
            <a:ext cx="7500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sk now or just send me an emai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nickATslickentertainmen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udget Breakdow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N+_costs.jpg"/>
          <p:cNvPicPr/>
          <p:nvPr/>
        </p:nvPicPr>
        <p:blipFill>
          <a:blip r:embed="rId1"/>
          <a:stretch/>
        </p:blipFill>
        <p:spPr>
          <a:xfrm>
            <a:off x="768240" y="1271520"/>
            <a:ext cx="7661520" cy="5157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Production, Development and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004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Development, testing and localizing teams need to be introduced so they can work closely with one another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Even though Metanet’s role in the development part of N+ was more on the managerial side, we tried to be a useful and organized part of the process and to help everyone else out wherever and whenever possible. Go team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Apparently, marketing your title makes a huge difference in terms of sales, so market constantly and creatively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ilarious_marketing_promo.gif"/>
          <p:cNvPicPr/>
          <p:nvPr/>
        </p:nvPicPr>
        <p:blipFill>
          <a:blip r:embed="rId1"/>
          <a:stretch/>
        </p:blipFill>
        <p:spPr>
          <a:xfrm>
            <a:off x="2928960" y="5857920"/>
            <a:ext cx="6002280" cy="785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There’s no ‘i’ in Teamocil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Know your developer: when you’re outsourcing, consider a collaborative partnership rather than a work-for-hire contract or simple license dea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Sharing royalties means both parties are equally invested in a successful final product, which is obviously a very good thing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slicklogo.jpg"/>
          <p:cNvPicPr/>
          <p:nvPr/>
        </p:nvPicPr>
        <p:blipFill>
          <a:blip r:embed="rId1"/>
          <a:stretch/>
        </p:blipFill>
        <p:spPr>
          <a:xfrm>
            <a:off x="285840" y="1928880"/>
            <a:ext cx="8602560" cy="1143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ang in The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4" descr="lolcat.jpg"/>
          <p:cNvPicPr/>
          <p:nvPr/>
        </p:nvPicPr>
        <p:blipFill>
          <a:blip r:embed="rId1"/>
          <a:stretch/>
        </p:blipFill>
        <p:spPr>
          <a:xfrm>
            <a:off x="2143080" y="1255680"/>
            <a:ext cx="4786200" cy="5138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N+ Development Di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rom Flash to XB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Slick\NPlus\Documentation\GDC 2008\LevelTool.png"/>
          <p:cNvPicPr/>
          <p:nvPr/>
        </p:nvPicPr>
        <p:blipFill>
          <a:blip r:embed="rId1"/>
          <a:stretch/>
        </p:blipFill>
        <p:spPr>
          <a:xfrm>
            <a:off x="714240" y="3500280"/>
            <a:ext cx="3633840" cy="295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Slick\NPlus\Documentation\GDC 2008\CharacterTool.png"/>
          <p:cNvPicPr/>
          <p:nvPr/>
        </p:nvPicPr>
        <p:blipFill>
          <a:blip r:embed="rId2"/>
          <a:stretch/>
        </p:blipFill>
        <p:spPr>
          <a:xfrm>
            <a:off x="4572000" y="2714760"/>
            <a:ext cx="44085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ebru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etting the company star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ilt a the game and level editor in C#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ilt a character editor t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arted C++ work on Eets code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500040" y="4786200"/>
            <a:ext cx="8215200" cy="1071720"/>
            <a:chOff x="500040" y="4786200"/>
            <a:chExt cx="8215200" cy="1071720"/>
          </a:xfrm>
        </p:grpSpPr>
        <p:sp>
          <p:nvSpPr>
            <p:cNvPr id="74" name="Rounded Rectangle 5"/>
            <p:cNvSpPr/>
            <p:nvPr/>
          </p:nvSpPr>
          <p:spPr>
            <a:xfrm>
              <a:off x="500040" y="4786200"/>
              <a:ext cx="8215200" cy="107172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42600" y="485748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Build a prototype in an ‘easy’ languag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Slick\NPlus\Documentation\GDC 2008\UIEditor.png"/>
          <p:cNvPicPr/>
          <p:nvPr/>
        </p:nvPicPr>
        <p:blipFill>
          <a:blip r:embed="rId1"/>
          <a:stretch/>
        </p:blipFill>
        <p:spPr>
          <a:xfrm>
            <a:off x="1928880" y="3429000"/>
            <a:ext cx="5352840" cy="317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orted C# game code to C++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ultiplayer bas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uilt a UI system + tool + localization t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500040" y="4786200"/>
            <a:ext cx="8215200" cy="1071720"/>
            <a:chOff x="500040" y="4786200"/>
            <a:chExt cx="8215200" cy="1071720"/>
          </a:xfrm>
        </p:grpSpPr>
        <p:sp>
          <p:nvSpPr>
            <p:cNvPr id="80" name="Rounded Rectangle 5"/>
            <p:cNvSpPr/>
            <p:nvPr/>
          </p:nvSpPr>
          <p:spPr>
            <a:xfrm>
              <a:off x="500040" y="4786200"/>
              <a:ext cx="8215200" cy="107172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  <a:effectLst>
              <a:outerShdw dist="1649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4"/>
            <p:cNvSpPr/>
            <p:nvPr/>
          </p:nvSpPr>
          <p:spPr>
            <a:xfrm>
              <a:off x="642600" y="485748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Recommendation: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</a:rPr>
                <a:t>Tackle the biggest problems first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5:14:22Z</dcterms:created>
  <dc:creator>Nick Waanders</dc:creator>
  <dc:description/>
  <dc:language>en-US</dc:language>
  <cp:lastModifiedBy>Mare</cp:lastModifiedBy>
  <dcterms:modified xsi:type="dcterms:W3CDTF">2008-02-19T23:41:11Z</dcterms:modified>
  <cp:revision>134</cp:revision>
  <dc:subject/>
  <dc:title>N+ Development Diary</dc:title>
</cp:coreProperties>
</file>